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9ADFB-E333-4812-B3B8-3636920E9A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EU Peníze školám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                                      Inovace ve vzdělávání na naší škole ZŠ Studánk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0C241-C595-4894-AB5A-9562A98DE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EF31F-B97F-4DF8-B2E0-71723E331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7E9CB-7A64-48AE-B5BA-18E4F2F6D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B2FB3-BE62-4B43-93D9-858EC74A3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AE453-8DFB-4AA3-947C-2B64B1269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46701-CB17-4CF1-BC47-95461CFF7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8207C-B1AF-4C54-B6E5-6A84EAC99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64403-55AB-4906-9A13-80A8E3468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67DA1-C172-4417-A4D9-977C8913D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7B809-CB52-44BE-A437-908D872A0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B15EA-66EF-41CD-B9B2-4CCECD8A3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F19F1-3B30-431F-891C-E8AD2E136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E9D00-A74D-4E71-9053-A80D9CCCC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FF768-444F-4E77-BCB5-AD1190F9A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65251-C1E2-42FE-86E8-2EA596140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56426-C1E1-43DF-A7AA-C9E6A498C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A0E08-F439-41AD-8008-D2075BD34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100D241-F5E2-4F7E-88DC-CEF386956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C3760E7-6088-4280-9DC2-39B089C42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D5A7DF7-2125-403D-B770-C6DFF8812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0824428-3B15-4D07-B39B-8A3F4A29F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19B79EB-59AA-4DA7-86B7-63DC5B22C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2A864-9C8A-457F-B2DB-32486D845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1731EC-78BE-4C35-98D6-9886BABA4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C3955D0-3D98-4372-85BD-FCCC272DB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E9E11EB-6AE6-492F-B252-FC261536E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49DF80A-FDAC-4F1F-AB96-F9B18A018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BE14A44-7039-465E-B0D8-B6915B1E8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EEBF3C9-1FE8-4FC6-BDFB-1E07820A1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53654CF-327E-4934-BDD3-B311036A9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E433A5-2300-4558-BC87-4C7E68E40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A69413-E1AF-4C67-80F7-7F5A1AC43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50F3BC-6348-4315-B00C-32DC2A053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32DE7-4A10-4AE0-ABBB-327110E83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CE2410-4F90-428E-B9CB-72B1E41FF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AC4D19-ACD4-4ACA-9EBA-9FF903D47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5C0E51-0A77-4FEA-832D-53FCC6FE3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8E76B6-6873-4F12-91EE-DE6DC5595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383D37-44FC-4934-A0B6-5C08DF670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ADB6CC-A8DB-4282-9AFE-C6E74ABF0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1AC8CC-309C-41B3-8CA6-F935C88E9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A653BF-7FE1-4BC4-8BAE-0C0482437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8DC4DC-70E0-48EE-8B09-6C451EA6A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1189C95-63EC-44B3-A107-58DF35BF6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15395-2119-406F-9290-8F2C13C75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E2CF893-4F2F-4419-8D3A-3C7C8AD91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2EAAB61-9922-401A-B57D-A7BAA67FC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9A373E7-284D-4979-9A70-314DE4B71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A371051-69CF-4ED6-90B5-A408C0B54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504A0CC-C6FE-4E93-9054-3B2BF7045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6249489-A963-4795-B1B5-13AE2A7C1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7CF7FFC-A906-49E3-9BAF-6309666D6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653C065-86EC-4CB9-A02B-7BA256E01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730A9E8-35B4-4492-B9C3-1C50C68D2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679B79F-C449-4E23-91C3-D9C1C211C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8709F-4585-45D7-960B-588780F6A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89C3D4F-90EE-4432-BC52-52A987D23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D971D62-D41E-4287-AEBC-985A2688C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FF267C5-7D44-402C-BA26-09B40F7E3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259656B-5EBF-474A-A576-9D5C1CBF0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5FE00DE-4ED9-4783-BA48-5AD00BB21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765A959-1F91-4914-9B5D-89E5B58FD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AA50AD3-DC5D-45EE-BDF7-9C89EB98F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53B552F-9D15-4FDC-BB83-529B13ADE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43F0BF5-4F76-4A59-8FEF-5D73A618C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9399ABF-3ED4-4DB1-B28E-C38A00596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B8C52-DCCC-401A-8FC3-827CF282E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113A190-56DA-4A5B-B7FE-5519B9470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6F3746B-2DD4-499D-B4DB-13A1C0C9A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7881985-A32D-41A8-A02F-70E485295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D6DB19D-2117-4BD9-867F-5E3216021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35E1DE3-C630-4DF6-92B7-8FBC0A81C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739C4ED-93EA-46F7-A2B6-23DD68E71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D9FF517-F073-426F-8AA3-706C87027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BA809ED-097C-4A30-98ED-B2A2B83FE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7A273D2-2A8A-40BA-8EF0-17FED6E53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BC7BD69-D978-4AA8-B8D1-277284B7D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0BBFE-3DB6-4405-BC38-C2A4E8B67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927C182-0590-43D4-8D24-8D98619F0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DE8D332-F7EF-4541-B73A-C09E6E262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FF608C0-3138-4EB4-A201-9AD1FDF42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AE0CB78-916A-40A4-9A8A-0387F709A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CC5FA23-20B7-4AE2-B451-3EC4D198A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5D651-AFB2-4B9A-9B9F-79FA5B42C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římá spojovací čára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římá spojovací čára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římá spojovací čára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Obdélník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římá spojovací čára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Elipsa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7AFEE-578F-4AA9-ADDC-EE0E14A84421}" type="slidenum">
              <a:rPr b="1" lang="cs-CZ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Obdélník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Obdélník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bdélník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Obdélník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římá spojovací čára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římá spojovací čára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římá spojovací čára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římá spojovací čára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římá spojovací čára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římá spojovací čára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bdélník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Elipsa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Elipsa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Elipsa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Elipsa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Elipsa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96EED-BC9A-499C-903B-1AD8194FFB39}" type="slidenum">
              <a:rPr b="1" lang="cs-CZ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římá spojovací čára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římá spojovací čára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římá spojovací čára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bdélník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římá spojovací čára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Elipsa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B8DA4-56B1-4830-9113-BEEBBA03E2D5}" type="slidenum">
              <a:rPr b="1" lang="cs-CZ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Obdélník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bdélník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Obdélník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bdélník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římá spojovací čára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římá spojovací čára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římá spojovací čára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římá spojovací čára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římá spojovací čára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bdélník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Elipsa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Elipsa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Elipsa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Elipsa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Elipsa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římá spojovací čára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39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4F274-CE14-4F9D-ACDA-91F9F0AD8F2D}" type="slidenum">
              <a:rPr b="1" lang="cs-CZ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římá spojovací čára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římá spojovací čára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římá spojovací čára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Obdélník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římá spojovací čára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Elipsa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CD46D-A6E7-4C6C-8222-08F9E0CAC582}" type="slidenum">
              <a:rPr b="1" lang="cs-CZ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římá spojovací čára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římá spojovací čára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římá spojovací čára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římá spojovací čára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Obdélník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římá spojovací čára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Elipsa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9458E-F8F0-4157-B895-BCA9E40333F6}" type="slidenum">
              <a:rPr b="1" lang="cs-CZ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římá spojovací čára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Elipsa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římá spojovací čára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Obdélník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římá spojovací čára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římá spojovací čára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římá spojovací čára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05D45-6234-4B33-8BD4-504E80205588}" type="slidenum">
              <a:rPr b="1" lang="cs-CZ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Zástupný symbol pro zápatí 3"/>
          <p:cNvSpPr/>
          <p:nvPr/>
        </p:nvSpPr>
        <p:spPr>
          <a:xfrm>
            <a:off x="1584360" y="6237360"/>
            <a:ext cx="59752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Autorem materiálu a všech jeho částí, není-li uvedeno jinak, je Mgr. Jana Macíkov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6"/>
          <p:cNvSpPr/>
          <p:nvPr/>
        </p:nvSpPr>
        <p:spPr>
          <a:xfrm>
            <a:off x="0" y="669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58"/>
          <p:cNvSpPr/>
          <p:nvPr/>
        </p:nvSpPr>
        <p:spPr>
          <a:xfrm>
            <a:off x="468360" y="3011400"/>
            <a:ext cx="842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59"/>
          <p:cNvSpPr/>
          <p:nvPr/>
        </p:nvSpPr>
        <p:spPr>
          <a:xfrm>
            <a:off x="0" y="39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64"/>
          <p:cNvSpPr/>
          <p:nvPr/>
        </p:nvSpPr>
        <p:spPr>
          <a:xfrm>
            <a:off x="611280" y="1121040"/>
            <a:ext cx="6913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Tento materiál byl vytvořen v rámci projektu  Operačního programu Vzdělávání pro konkurenceschopnos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3" name=""/>
          <p:cNvGraphicFramePr/>
          <p:nvPr/>
        </p:nvGraphicFramePr>
        <p:xfrm>
          <a:off x="611280" y="1700280"/>
          <a:ext cx="6837120" cy="1096920"/>
        </p:xfrm>
        <a:graphic>
          <a:graphicData uri="http://schemas.openxmlformats.org/drawingml/2006/table">
            <a:tbl>
              <a:tblPr/>
              <a:tblGrid>
                <a:gridCol w="2243160"/>
                <a:gridCol w="459396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rojekt MŠMT Č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EU PENÍZE ŠKOLÁ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Číslo projekt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CZ.1.07/1.4.00/21.288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Název projektu škol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Naše škola, ZŠ Pardubice, Benešovo náměstí 5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líčová aktivita</a:t>
                      </a: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 III/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Inovace a zkvalitnění výuky prostřednictvím IC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4" name="Rectangle 116"/>
          <p:cNvSpPr/>
          <p:nvPr/>
        </p:nvSpPr>
        <p:spPr>
          <a:xfrm>
            <a:off x="395280" y="2883960"/>
            <a:ext cx="8497800" cy="27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Šablona č. III/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Identifikátor: VY_32_INOVACE_03_SADA9_MAC_5RO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Vzdělávací oblast: Informační a komunikační technolog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Vzdělávací obor: Počítač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5" name="obrázek 1" descr=""/>
          <p:cNvPicPr/>
          <p:nvPr/>
        </p:nvPicPr>
        <p:blipFill>
          <a:blip r:embed="rId1"/>
          <a:stretch/>
        </p:blipFill>
        <p:spPr>
          <a:xfrm>
            <a:off x="3924360" y="189000"/>
            <a:ext cx="733320" cy="981000"/>
          </a:xfrm>
          <a:prstGeom prst="rect">
            <a:avLst/>
          </a:prstGeom>
          <a:ln w="0">
            <a:noFill/>
          </a:ln>
        </p:spPr>
      </p:pic>
      <p:pic>
        <p:nvPicPr>
          <p:cNvPr id="366" name="Obrázek 10" descr=""/>
          <p:cNvPicPr/>
          <p:nvPr/>
        </p:nvPicPr>
        <p:blipFill>
          <a:blip r:embed="rId2"/>
          <a:stretch/>
        </p:blipFill>
        <p:spPr>
          <a:xfrm>
            <a:off x="2268360" y="4508640"/>
            <a:ext cx="6158160" cy="15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575f6d"/>
                </a:solidFill>
                <a:latin typeface="Century Schoolbook"/>
              </a:rPr>
              <a:t>POUŽITÉ ZDROJE: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eškerý obrazový materiál byl čerpán z volně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ostupných zdrojů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icrosoft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PowerPoint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Klipart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neb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icrosof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t PowerPoint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Klipart Office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nline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Zástupný symbol pro zápatí 2"/>
          <p:cNvSpPr/>
          <p:nvPr/>
        </p:nvSpPr>
        <p:spPr>
          <a:xfrm>
            <a:off x="1601640" y="6021360"/>
            <a:ext cx="5940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Autorem materiálu a všech jeho částí, není-li uvedeno jinak, je Mgr. Jana Macíková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5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Century Schoolbook"/>
              </a:rPr>
              <a:t>NÁZEV: INTERNET- VYHLEDÁVÁNÍ INFORMACÍ</a:t>
            </a:r>
            <a:br>
              <a:rPr sz="1400"/>
            </a:br>
            <a:r>
              <a:rPr b="1" lang="cs-CZ" sz="1400" spc="-1" strike="noStrike">
                <a:solidFill>
                  <a:srgbClr val="000000"/>
                </a:solidFill>
                <a:latin typeface="Century Schoolbook"/>
              </a:rPr>
              <a:t>AUTOR: MGR. JANA MACÍKOVÁ</a:t>
            </a:r>
            <a:br>
              <a:rPr sz="1400"/>
            </a:br>
            <a:r>
              <a:rPr b="1" lang="cs-CZ" sz="1400" spc="-1" strike="noStrike">
                <a:solidFill>
                  <a:srgbClr val="000000"/>
                </a:solidFill>
                <a:latin typeface="Century Schoolbook"/>
              </a:rPr>
              <a:t>DATUM: 21.9.2011</a:t>
            </a:r>
            <a:br>
              <a:rPr sz="1400"/>
            </a:br>
            <a:r>
              <a:rPr b="1" lang="cs-CZ" sz="1400" spc="-1" strike="noStrike">
                <a:solidFill>
                  <a:srgbClr val="000000"/>
                </a:solidFill>
                <a:latin typeface="Century Schoolbook"/>
              </a:rPr>
              <a:t>STRUČNÁ ANOTACE: PREZENTACE SLOUŽÍ JAKO VÝUKOVÝ MATERIÁL PRO ŽÁKY 5. ROČNÍKU ZŠ. JEJÍM CÍLEM JE SEZNÁMENÍ S HLAVNÍ FUNKCÍ INTERNETU- VYHLEDÁVÁNÍM INFORMACÍ. </a:t>
            </a:r>
            <a:br>
              <a:rPr sz="1400"/>
            </a:br>
            <a:r>
              <a:rPr b="1" lang="cs-CZ" sz="1400" spc="-1" strike="noStrike">
                <a:solidFill>
                  <a:srgbClr val="000000"/>
                </a:solidFill>
                <a:latin typeface="Century Schoolbook"/>
              </a:rPr>
              <a:t>METODICKÉ ZHODNOCENÍ: ŽÁCI MLUVILI O TOM, CO ONI NEJČASTĚJI NA INTERNETU VYHLEDÁVAJÍ. PREZENTACE I S DISKUZÍ A VYHLEDÁNÍM INFORMACÍ O KARLU ČAPKOVI TRVALA  ASI DESET MINUT.</a:t>
            </a:r>
            <a:endParaRPr b="0" lang="en-US" sz="14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99520" cy="15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0d0d0d"/>
                </a:solidFill>
                <a:latin typeface="Century Schoolbook"/>
              </a:rPr>
              <a:t>INTERNET- VYHLEDÁVÁNÍ INFORMACÍ</a:t>
            </a:r>
            <a:endParaRPr b="0" lang="en-US" sz="5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1" name="Zástupný symbol pro zápatí 3"/>
          <p:cNvSpPr/>
          <p:nvPr/>
        </p:nvSpPr>
        <p:spPr>
          <a:xfrm>
            <a:off x="1843200" y="6226200"/>
            <a:ext cx="59976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Autorem materiálu a všech jeho částí, není-li uvedeno jinak, je Mgr. Jana Macíkov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Zaoblený obdélníkový popisek 8"/>
          <p:cNvSpPr/>
          <p:nvPr/>
        </p:nvSpPr>
        <p:spPr>
          <a:xfrm>
            <a:off x="5148360" y="1989000"/>
            <a:ext cx="3095640" cy="2303640"/>
          </a:xfrm>
          <a:prstGeom prst="wedgeRoundRectCallout">
            <a:avLst>
              <a:gd name="adj1" fmla="val -20250"/>
              <a:gd name="adj2" fmla="val 83324"/>
              <a:gd name="adj3" fmla="val 16667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Century Schoolbook"/>
              </a:rPr>
              <a:t>Informace se dají hledat také jinak </a:t>
            </a:r>
            <a:r>
              <a:rPr b="0" lang="cs-CZ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3" name="Picture 7" descr="C:\Users\xxx\AppData\Local\Microsoft\Windows\Temporary Internet Files\Content.IE5\3UAW77K6\MC900334966[1].wmf"/>
          <p:cNvPicPr/>
          <p:nvPr/>
        </p:nvPicPr>
        <p:blipFill>
          <a:blip r:embed="rId1"/>
          <a:stretch/>
        </p:blipFill>
        <p:spPr>
          <a:xfrm>
            <a:off x="1763640" y="2421000"/>
            <a:ext cx="2160720" cy="266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" dur="1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7598d9"/>
                                      </p:to>
                                    </p:animClr>
                                    <p:animClr clrSpc="rgb">
                                      <p:cBhvr>
                                        <p:cTn id="21" dur="1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7598d9"/>
                                      </p:to>
                                    </p:animClr>
                                    <p:set>
                                      <p:cBhvr>
                                        <p:cTn id="22" dur="1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8" dur="250" autoRev="1" fill="hold"/>
                                        <p:tgtEl>
                                          <p:spTgt spid="37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575f6d"/>
                </a:solidFill>
                <a:latin typeface="Century Schoolbook"/>
              </a:rPr>
              <a:t>CÍLE INTERNETU</a:t>
            </a:r>
            <a:endParaRPr b="0" lang="en-US" sz="5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entury Schoolbook"/>
              </a:rPr>
              <a:t>Bezproblémová komunikace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Century Schoolbook"/>
              </a:rPr>
              <a:t>Vyhledávání informací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6" name="Zástupný symbol pro zápatí 3"/>
          <p:cNvSpPr/>
          <p:nvPr/>
        </p:nvSpPr>
        <p:spPr>
          <a:xfrm>
            <a:off x="1843200" y="6226200"/>
            <a:ext cx="59976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Autorem materiálu a všech jeho částí, není-li uvedeno jinak, je Mgr. Jana Macíkov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Zaoblený obdélníkový popisek 8"/>
          <p:cNvSpPr/>
          <p:nvPr/>
        </p:nvSpPr>
        <p:spPr>
          <a:xfrm>
            <a:off x="1116000" y="3357720"/>
            <a:ext cx="2879640" cy="1800000"/>
          </a:xfrm>
          <a:prstGeom prst="wedgeRoundRectCallout">
            <a:avLst>
              <a:gd name="adj1" fmla="val -20833"/>
              <a:gd name="adj2" fmla="val 62500"/>
              <a:gd name="adj3" fmla="val 16667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Century Schoolbook"/>
              </a:rPr>
              <a:t>Jaké vyhledáváš informa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Picture 8" descr="C:\Users\xxx\AppData\Local\Microsoft\Windows\Temporary Internet Files\Content.IE5\W2I4GHQ5\MC900215022[1].wmf"/>
          <p:cNvPicPr/>
          <p:nvPr/>
        </p:nvPicPr>
        <p:blipFill>
          <a:blip r:embed="rId1"/>
          <a:stretch/>
        </p:blipFill>
        <p:spPr>
          <a:xfrm>
            <a:off x="4643280" y="2924280"/>
            <a:ext cx="303876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0" dur="1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7598d9"/>
                                      </p:to>
                                    </p:animClr>
                                    <p:animClr clrSpc="rgb">
                                      <p:cBhvr>
                                        <p:cTn id="71" dur="1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7598d9"/>
                                      </p:to>
                                    </p:animClr>
                                    <p:set>
                                      <p:cBhvr>
                                        <p:cTn id="72" dur="1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7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7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7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8" dur="250" autoRev="1" fill="hold"/>
                                        <p:tgtEl>
                                          <p:spTgt spid="37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575f6d"/>
                </a:solidFill>
                <a:latin typeface="Century Schoolbook"/>
              </a:rPr>
              <a:t>JAK VYHLEDÁVAT</a:t>
            </a:r>
            <a:endParaRPr b="0" lang="en-US" sz="5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entury Schoolbook"/>
              </a:rPr>
              <a:t>Správně zvolit klíčová slova a internetový vyhledávač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entury Schoolbook"/>
              </a:rPr>
              <a:t>Více zdrojů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1" name="Zástupný symbol pro zápatí 3"/>
          <p:cNvSpPr/>
          <p:nvPr/>
        </p:nvSpPr>
        <p:spPr>
          <a:xfrm>
            <a:off x="1843200" y="6226200"/>
            <a:ext cx="59976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Autorem materiálu a všech jeho částí, není-li uvedeno jinak, je Mgr. Jana Macíkov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Zaoblený obdélníkový popisek 4"/>
          <p:cNvSpPr/>
          <p:nvPr/>
        </p:nvSpPr>
        <p:spPr>
          <a:xfrm>
            <a:off x="3708360" y="3573360"/>
            <a:ext cx="3600360" cy="2303640"/>
          </a:xfrm>
          <a:prstGeom prst="wedgeRoundRectCallout">
            <a:avLst>
              <a:gd name="adj1" fmla="val -20833"/>
              <a:gd name="adj2" fmla="val 66037"/>
              <a:gd name="adj3" fmla="val 16667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Century Schoolbook"/>
              </a:rPr>
              <a:t>Jaké znáš internetové vyhledávač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0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1" dur="250" autoRev="1" fill="hold"/>
                                        <p:tgtEl>
                                          <p:spTgt spid="38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575f6d"/>
                </a:solidFill>
                <a:latin typeface="Century Schoolbook"/>
              </a:rPr>
              <a:t>INTERNETOVÉ VYHLEDÁVAČE</a:t>
            </a:r>
            <a:endParaRPr b="0" lang="en-US" sz="4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Century Schoolbook"/>
              </a:rPr>
              <a:t>Google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Century Schoolbook"/>
              </a:rPr>
              <a:t>Centrum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Century Schoolbook"/>
              </a:rPr>
              <a:t>Seznam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Century Schoolbook"/>
              </a:rPr>
              <a:t>Atlas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5" name="Zástupný symbol pro zápatí 3"/>
          <p:cNvSpPr/>
          <p:nvPr/>
        </p:nvSpPr>
        <p:spPr>
          <a:xfrm>
            <a:off x="1843200" y="6226200"/>
            <a:ext cx="59976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Autorem materiálu a všech jeho částí, není-li uvedeno jinak, je Mgr. Jana Macíkov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Picture 9" descr="C:\Users\xxx\AppData\Local\Microsoft\Windows\Temporary Internet Files\Content.IE5\W2I4GHQ5\MC900349221[1].wmf"/>
          <p:cNvPicPr/>
          <p:nvPr/>
        </p:nvPicPr>
        <p:blipFill>
          <a:blip r:embed="rId1"/>
          <a:stretch/>
        </p:blipFill>
        <p:spPr>
          <a:xfrm>
            <a:off x="4140360" y="2133720"/>
            <a:ext cx="2761920" cy="27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5" dur="1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7598d9"/>
                                      </p:to>
                                    </p:animClr>
                                    <p:animClr clrSpc="rgb">
                                      <p:cBhvr>
                                        <p:cTn id="166" dur="1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7598d9"/>
                                      </p:to>
                                    </p:animClr>
                                    <p:set>
                                      <p:cBhvr>
                                        <p:cTn id="167" dur="1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6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6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7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7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cs-CZ" sz="5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9" name="Zástupný symbol pro zápatí 3"/>
          <p:cNvSpPr/>
          <p:nvPr/>
        </p:nvSpPr>
        <p:spPr>
          <a:xfrm>
            <a:off x="1843200" y="6226200"/>
            <a:ext cx="59976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Autorem materiálu a všech jeho částí, není-li uvedeno jinak, je Mgr. Jana Macíkov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Obdélník 4"/>
          <p:cNvSpPr/>
          <p:nvPr/>
        </p:nvSpPr>
        <p:spPr>
          <a:xfrm>
            <a:off x="250920" y="1268280"/>
            <a:ext cx="660708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Zaoblený obdélníkový popisek 7"/>
          <p:cNvSpPr/>
          <p:nvPr/>
        </p:nvSpPr>
        <p:spPr>
          <a:xfrm>
            <a:off x="1403280" y="2349360"/>
            <a:ext cx="6121440" cy="2159280"/>
          </a:xfrm>
          <a:prstGeom prst="wedgeRoundRectCallout">
            <a:avLst>
              <a:gd name="adj1" fmla="val -20833"/>
              <a:gd name="adj2" fmla="val 62500"/>
              <a:gd name="adj3" fmla="val 16667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Century Schoolbook"/>
              </a:rPr>
              <a:t>…</a:t>
            </a:r>
            <a:r>
              <a:rPr b="0" lang="cs-CZ" sz="3200" spc="-1" strike="noStrike">
                <a:solidFill>
                  <a:srgbClr val="ffffff"/>
                </a:solidFill>
                <a:latin typeface="Century Schoolbook"/>
              </a:rPr>
              <a:t>znáš i jiné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4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5" dur="250" autoRev="1" fill="hold"/>
                                        <p:tgtEl>
                                          <p:spTgt spid="39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575f6d"/>
                </a:solidFill>
                <a:latin typeface="Century Schoolbook"/>
              </a:rPr>
              <a:t>ÚKOL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entury Schoolbook"/>
              </a:rPr>
              <a:t>Vyhledej informace o Karlu Čapkovi (datum narození, život a dílo)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4" name="Zástupný symbol pro zápatí 3"/>
          <p:cNvSpPr/>
          <p:nvPr/>
        </p:nvSpPr>
        <p:spPr>
          <a:xfrm>
            <a:off x="1843200" y="6226200"/>
            <a:ext cx="59976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Autorem materiálu a všech jeho částí, není-li uvedeno jinak, je Mgr. Jana Macíkov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entury Schoolbook"/>
              </a:rPr>
              <a:t>Děkuji za pozornost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7" name="Zástupný symbol pro zápatí 3"/>
          <p:cNvSpPr/>
          <p:nvPr/>
        </p:nvSpPr>
        <p:spPr>
          <a:xfrm>
            <a:off x="1843200" y="6226200"/>
            <a:ext cx="59976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Autorem materiálu a všech jeho částí, není-li uvedeno jinak, je Mgr. Jana Macíkov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2T06:47:05Z</dcterms:created>
  <dc:creator>Daňková  Kamila</dc:creator>
  <dc:description/>
  <dc:language>en-US</dc:language>
  <cp:lastModifiedBy>cevorovaa</cp:lastModifiedBy>
  <dcterms:modified xsi:type="dcterms:W3CDTF">2014-09-04T06:04:30Z</dcterms:modified>
  <cp:revision>34</cp:revision>
  <dc:subject/>
  <dc:title>Microsoft office</dc:title>
</cp:coreProperties>
</file>