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4B2E-79C1-4D00-8703-413590A55D80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                                       Inovace ve vzdělávání na naší škole ZŠ Studánk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25C9-5561-4479-989E-34BEFD646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F482-03D3-4977-8B62-EF0C2FF7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02CA-3C99-4EF9-9CBE-D8B6ED363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51AC-CA3E-4A35-9027-DD9B65806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D75E3-5238-420C-90D4-65DA32944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1E36-482B-4BA2-9862-EB6E39E5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9E32-078F-44B9-BE54-3806C2DE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EE3B-06CA-48FF-91A1-7C10A3E9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A299-F936-4EF1-953D-95B19933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8AE4-7568-4F46-8E32-38C29FA3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D12EE-1B35-4616-9920-7A7D1EA7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26BB-7908-472E-83A8-BF9EC955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0144-4145-4AD7-A1FF-D9294943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0CAA0-EDE3-4EFA-9E1F-43CC4F36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9B05-8123-4C07-BEA0-925B6A06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84C0-196F-489F-82A9-BA34C9A28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2337-A518-4913-976C-342DB91A5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4B4247-051E-446D-BCED-108C4071B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A3BE1C-59D6-4481-86A0-CE9E572B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1EF8F2-EDBD-4E84-B250-B9FAA8FF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8677D8-1270-4E30-9A70-338A2938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9EA7F3-8826-433E-BC26-20588016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629A-EAD7-4F69-ACDC-8B607180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00E504-2120-44E7-91D9-327C30B0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8BA236-3EF2-45AD-9249-93C27D8F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0A873A-8C4B-43DF-B3B1-9E8F33F7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F60CED-45B5-4056-B6C2-92641CB9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459AF4-A3E5-4193-B1FC-8CE3B898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05F962-DA55-4259-A992-1BD31EFBB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619148-DA9D-458B-9502-FAA08EB3C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93860-248E-448F-A5F0-7B45CFDFF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92067-A7CD-40B6-BFC3-DE272C2E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85E2D-5367-4F2B-826D-A67D430B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B682-190B-4C38-AFCA-C7F40B87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E6FB6-E30B-41B2-964A-3214D50D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4F935-87EC-4248-B47B-C1608A43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01199-C585-4BCF-A0E3-DE304686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5041D-8908-4BEF-BA0E-67A55035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A6324-0D1C-42B3-B82E-DE41A4A4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F2B02-3888-45A1-A2E0-8E365EAB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0EEAA-BDAC-48B6-9FD0-746B01C19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DB9C0-F7D0-457F-91B6-E65D20F6C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E7C04-7FF6-4FAD-92EA-75C41327C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303671-63DD-49F9-9257-FFE8F7BC8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7811-276C-4C37-9D6F-0654CC34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A3DA71-54FF-4E06-8DF9-477EC980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A99FC0-3AAF-4153-9A11-06EF5809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178A51-D99B-4849-95C8-16079A6A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FB7EE3-EBAD-4CEE-8C8F-A1EF2B2B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1F87A2-C494-4C4E-B43C-4948C69D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0629D1-6588-4D62-9339-1A9FD85F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1038C0-0DD9-4BDE-89FF-5F18E593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281168-0A37-4C62-9444-6B572336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533F8B-24F1-418C-82E8-0966287A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285835-10C6-4F60-81A3-9C85CFFE4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5567-320F-4C8A-9C43-D7D85E8E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DBE636-86CB-43FC-A9DF-53BF6A71C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1D4ABF-2D65-4D4B-A56C-ECF0250AD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3A06DF-7FB0-4E19-BE38-389BE283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5D3BF3-9862-4D71-BCC7-BA29AA65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1BF0F7-8E3B-42CF-A3CA-4131E638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34CE74-4C14-4E10-8A88-96A1D6CC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633DDB-0520-4446-BD82-3BD36C32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F0EFD4-7DAD-4369-8D3C-7F63459E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F39556-F5F8-4E6A-85A6-4487F663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2D9FB1-3141-420B-8F77-75D91CF9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C323-5775-4152-B6B7-21342F48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044BAC-DEC1-4DFF-AD15-11443CFC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A32806-175B-4CB3-82A6-33DDFE96A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B93522-5D0D-4ECD-9816-5E5A3887B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96031F-2EC0-40EC-965F-4DFF61A63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092B96-523A-4AA1-837C-052AFDB0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C1DA80-F9A2-4F27-8522-B42D0C3D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5FE1C5-1663-421A-BAB2-26CC721D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0C3F42-2741-4306-872C-524BAEDE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55D513-2E7F-4820-9E24-0DC619D2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3AD0A5-82D8-4967-BB6B-ED23F385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62FF-718B-41E7-8049-577ED888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0F3A28-37E8-49FD-A34C-11694910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3A093D-3238-4892-8025-23E150B8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3DA0F9-2EE4-4CB9-9ACF-7923945F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17DC75-FE02-4BBE-B411-1D43DCC33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147929-B812-4B8C-865E-CB0F04ED0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096D-B2AC-4C21-ADEE-C571C682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A382-02F2-463E-B8FD-694663E21544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římá spojovací čára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římá spojovací čára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římá spojovací čára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římá spojovací čára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římá spojovací čára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římá spojovací čára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délní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ipsa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ipsa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ipsa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lipsa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ipsa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EA07-6C9A-4AA1-9FDD-E36CBE6A1574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DFCC-ABE0-4B52-A848-72AD1DBD299E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římá spojovací čára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římá spojovací čára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římá spojovací čára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římá spojovací čára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římá spojovací čára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délník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lipsa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lipsa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lipsa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lipsa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lipsa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římá spojovací čára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F4E4-1D3B-4044-8DE8-781105DDA9D4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B229-EF27-4B7C-B3A9-E1C9DDAC410F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římá spojovací čára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římá spojovací čára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římá spojovací čára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římá spojovací čára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římá spojovací čára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lipsa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9FF5-1550-4819-9477-6DC18243AAE9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římá spojovací čára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lipsa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římá spojovací čára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bdélník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římá spojovací čára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římá spojovací čára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římá spojovací čára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DE9E-8961-4788-AA78-58539B376722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Zástupný symbol pro zápatí 3"/>
          <p:cNvSpPr/>
          <p:nvPr/>
        </p:nvSpPr>
        <p:spPr>
          <a:xfrm>
            <a:off x="1584360" y="6237360"/>
            <a:ext cx="5975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ana Macík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0" y="66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8"/>
          <p:cNvSpPr/>
          <p:nvPr/>
        </p:nvSpPr>
        <p:spPr>
          <a:xfrm>
            <a:off x="468360" y="301140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59"/>
          <p:cNvSpPr/>
          <p:nvPr/>
        </p:nvSpPr>
        <p:spPr>
          <a:xfrm>
            <a:off x="0" y="39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64"/>
          <p:cNvSpPr/>
          <p:nvPr/>
        </p:nvSpPr>
        <p:spPr>
          <a:xfrm>
            <a:off x="611280" y="1121040"/>
            <a:ext cx="691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Tento materiál byl vytvořen v rámci projektu  Operačního programu Vzdělávání pro konkurenceschopno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611280" y="1700280"/>
          <a:ext cx="6837120" cy="1096920"/>
        </p:xfrm>
        <a:graphic>
          <a:graphicData uri="http://schemas.openxmlformats.org/drawingml/2006/table">
            <a:tbl>
              <a:tblPr/>
              <a:tblGrid>
                <a:gridCol w="2243160"/>
                <a:gridCol w="4593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ojekt MŠMT Č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U PENÍZE ŠKOLÁ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Číslo projek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Z.1.07/1.4.00/21.28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ázev projektu ško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aše škola, ZŠ Pardubice, Benešovo náměstí 5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líčová aktivita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III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ovace a zkvalitnění výuky prostřednictvím I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4" name="Rectangle 116"/>
          <p:cNvSpPr/>
          <p:nvPr/>
        </p:nvSpPr>
        <p:spPr>
          <a:xfrm>
            <a:off x="395280" y="2883960"/>
            <a:ext cx="8497800" cy="27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Šablona č. III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Identifikátor: VY_32_INOVACE_01_SADA9_MAC_5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zdělávací oblast: Informační a komunikační techn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zdělávací obor: Počítač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obrázek 1" descr=""/>
          <p:cNvPicPr/>
          <p:nvPr/>
        </p:nvPicPr>
        <p:blipFill>
          <a:blip r:embed="rId1"/>
          <a:stretch/>
        </p:blipFill>
        <p:spPr>
          <a:xfrm>
            <a:off x="3924360" y="189000"/>
            <a:ext cx="733320" cy="981000"/>
          </a:xfrm>
          <a:prstGeom prst="rect">
            <a:avLst/>
          </a:prstGeom>
          <a:ln w="0">
            <a:noFill/>
          </a:ln>
        </p:spPr>
      </p:pic>
      <p:pic>
        <p:nvPicPr>
          <p:cNvPr id="366" name="Obrázek 10" descr=""/>
          <p:cNvPicPr/>
          <p:nvPr/>
        </p:nvPicPr>
        <p:blipFill>
          <a:blip r:embed="rId2"/>
          <a:stretch/>
        </p:blipFill>
        <p:spPr>
          <a:xfrm>
            <a:off x="2268360" y="4581360"/>
            <a:ext cx="615816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entury Schoolbook"/>
              </a:rPr>
              <a:t>Děkuji za pozornos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0" name="Zástupný symbol pro zápatí 3"/>
          <p:cNvSpPr/>
          <p:nvPr/>
        </p:nvSpPr>
        <p:spPr>
          <a:xfrm>
            <a:off x="1843200" y="6226200"/>
            <a:ext cx="5997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ana Macík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Zástupný symbol pro zápatí 2"/>
          <p:cNvSpPr/>
          <p:nvPr/>
        </p:nvSpPr>
        <p:spPr>
          <a:xfrm>
            <a:off x="1601640" y="6021360"/>
            <a:ext cx="5940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ana Mací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entury Schoolbook"/>
              </a:rPr>
              <a:t>NÁZEV: INTERNET- NEBEZPEČÍ INTERNETU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Century Schoolbook"/>
              </a:rPr>
              <a:t>AUTOR: MGR. JANA MACÍKOVÁ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Century Schoolbook"/>
              </a:rPr>
              <a:t>DATUM: 22.11.2011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Century Schoolbook"/>
              </a:rPr>
              <a:t>STRUČNÁ ANOTACE: PREZENTACE SLOUŽÍ JAKO VÝUKOVÝ MATERIÁL PRO ŽÁKY 5. ROČNÍKU ZŠ. JEJÍM CÍLEM JE UPOZORNĚNÍ NA NEBEZPEČÍ INTERNETU.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Century Schoolbook"/>
              </a:rPr>
              <a:t>METODICKÉ ZHODNOCENÍ: ŽÁCI MLUVILI O ČINNOSTECH, KTERÉ NA INTERNETU PROVOZUJÍ A KTERÉ BY MOHLY BÝT NEBEZPEČNÉ.PREZENTACE I S DISKUZÍ TRVALA ASI PATNÁCT MINUT.</a:t>
            </a:r>
            <a:endParaRPr b="0" lang="en-US" sz="1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d0d0d"/>
                </a:solidFill>
                <a:latin typeface="Century Schoolbook"/>
              </a:rPr>
              <a:t>INTERNET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d0d0d"/>
                </a:solidFill>
                <a:latin typeface="Century Schoolbook"/>
              </a:rPr>
              <a:t>= celosvětový systém navzájem propojených počítačových sítí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Zástupný symbol pro zápatí 3"/>
          <p:cNvSpPr/>
          <p:nvPr/>
        </p:nvSpPr>
        <p:spPr>
          <a:xfrm>
            <a:off x="1843200" y="6226200"/>
            <a:ext cx="5997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ana Macík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575f6d"/>
                </a:solidFill>
                <a:latin typeface="Century Schoolbook"/>
              </a:rPr>
              <a:t>INTERNET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entury Schoolbook"/>
              </a:rPr>
              <a:t>nás učí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entury Schoolbook"/>
              </a:rPr>
              <a:t>nám pomáhá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entury Schoolbook"/>
              </a:rPr>
              <a:t>je náš kamarád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entury Schoolbook"/>
              </a:rPr>
              <a:t>je zdrojem informací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entury Schoolbook"/>
              </a:rPr>
              <a:t>JE NEBEZPEČNÝ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Zástupný symbol pro zápatí 3"/>
          <p:cNvSpPr/>
          <p:nvPr/>
        </p:nvSpPr>
        <p:spPr>
          <a:xfrm>
            <a:off x="1843200" y="6226200"/>
            <a:ext cx="5997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ana Macík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Zaoblený obdélníkový popisek 8"/>
          <p:cNvSpPr/>
          <p:nvPr/>
        </p:nvSpPr>
        <p:spPr>
          <a:xfrm>
            <a:off x="4788000" y="1700280"/>
            <a:ext cx="3529080" cy="266544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entury Schoolbook"/>
              </a:rPr>
              <a:t>Jsou tvé činnosti na internetu bezpečn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250" autoRev="1" fill="hold"/>
                                        <p:tgtEl>
                                          <p:spTgt spid="3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575f6d"/>
                </a:solidFill>
                <a:latin typeface="Century Schoolbook"/>
              </a:rPr>
              <a:t>PROČ JE NEBEZPEČNÝ?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entury Schoolbook"/>
              </a:rPr>
              <a:t>Internet sám o sobě nebezpečný není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entury Schoolbook"/>
              </a:rPr>
              <a:t>Nebezpeční jsou lidé, kteří internet zneužívají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Zástupný symbol pro zápatí 3"/>
          <p:cNvSpPr/>
          <p:nvPr/>
        </p:nvSpPr>
        <p:spPr>
          <a:xfrm>
            <a:off x="1843200" y="6226200"/>
            <a:ext cx="5997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ana Macík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Zaoblený obdélníkový popisek 4"/>
          <p:cNvSpPr/>
          <p:nvPr/>
        </p:nvSpPr>
        <p:spPr>
          <a:xfrm>
            <a:off x="1187280" y="4221000"/>
            <a:ext cx="2089440" cy="1368720"/>
          </a:xfrm>
          <a:prstGeom prst="wedgeRoundRectCallout">
            <a:avLst>
              <a:gd name="adj1" fmla="val -20250"/>
              <a:gd name="adj2" fmla="val 83324"/>
              <a:gd name="adj3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entury Schoolbook"/>
              </a:rPr>
              <a:t>Víš, o čem mluví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Zaoblený obdélníkový popisek 5"/>
          <p:cNvSpPr/>
          <p:nvPr/>
        </p:nvSpPr>
        <p:spPr>
          <a:xfrm>
            <a:off x="5292720" y="4076640"/>
            <a:ext cx="2087640" cy="1368360"/>
          </a:xfrm>
          <a:prstGeom prst="wedgeRoundRectCallout">
            <a:avLst>
              <a:gd name="adj1" fmla="val -20250"/>
              <a:gd name="adj2" fmla="val 83324"/>
              <a:gd name="adj3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entury Schoolbook"/>
              </a:rPr>
              <a:t>Uveď příkl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250" autoRev="1" fill="hold"/>
                                        <p:tgtEl>
                                          <p:spTgt spid="3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250" autoRev="1" fill="hold"/>
                                        <p:tgtEl>
                                          <p:spTgt spid="3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94920" y="1052280"/>
            <a:ext cx="746748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entury Schoolbook"/>
              </a:rPr>
              <a:t>Bez počítače a internetového připojení se obejde jen málokterá domácnost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Schoolbook"/>
              </a:rPr>
              <a:t>Mnoho dětí tráví svůj volný čas na internetu. Komunikací s neznámými lidmi se však mohou vystavovat nebezpečí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Zástupný symbol pro zápatí 3"/>
          <p:cNvSpPr/>
          <p:nvPr/>
        </p:nvSpPr>
        <p:spPr>
          <a:xfrm>
            <a:off x="1843200" y="6226200"/>
            <a:ext cx="5997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ana Macík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Zaoblený obdélníkový popisek 5"/>
          <p:cNvSpPr/>
          <p:nvPr/>
        </p:nvSpPr>
        <p:spPr>
          <a:xfrm>
            <a:off x="2771640" y="4149720"/>
            <a:ext cx="5113440" cy="180036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entury Schoolbook"/>
              </a:rPr>
              <a:t>Umíš si představit život bez internet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250" autoRev="1" fill="hold"/>
                                        <p:tgtEl>
                                          <p:spTgt spid="3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311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575f6d"/>
                </a:solidFill>
                <a:latin typeface="Century Schoolbook"/>
              </a:rPr>
              <a:t>PRAVIDLA CHOVÁNÍ NA INTERNETU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entury Schoolbook"/>
              </a:rPr>
              <a:t>Nezveřejňuji své osobní údaje (telefon, adresa,…)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entury Schoolbook"/>
              </a:rPr>
              <a:t>Nezveřejňuji intimní fotografie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entury Schoolbook"/>
              </a:rPr>
              <a:t>Nechatuji si s cizími lidmi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entury Schoolbook"/>
              </a:rPr>
              <a:t>Neotvírám přílohy e-mailů od cizích odesílatelů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Zástupný symbol pro zápatí 3"/>
          <p:cNvSpPr/>
          <p:nvPr/>
        </p:nvSpPr>
        <p:spPr>
          <a:xfrm>
            <a:off x="1843200" y="6226200"/>
            <a:ext cx="5997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ana Macík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entury Schoolbook"/>
              </a:rPr>
              <a:t>Když je mi něco nepříjemné, oznámím to rodičům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entury Schoolbook"/>
              </a:rPr>
              <a:t>Nikomu neříkám svá hesla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entury Schoolbook"/>
              </a:rPr>
              <a:t>Když s někým nechci komunikovat, nekomunikuji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Zástupný symbol pro zápatí 3"/>
          <p:cNvSpPr/>
          <p:nvPr/>
        </p:nvSpPr>
        <p:spPr>
          <a:xfrm>
            <a:off x="1843200" y="6226200"/>
            <a:ext cx="5997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ana Macík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Zástupný symbol pro zápatí 3"/>
          <p:cNvSpPr/>
          <p:nvPr/>
        </p:nvSpPr>
        <p:spPr>
          <a:xfrm>
            <a:off x="1843200" y="6226200"/>
            <a:ext cx="5997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ana Macík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bdélník 4"/>
          <p:cNvSpPr/>
          <p:nvPr/>
        </p:nvSpPr>
        <p:spPr>
          <a:xfrm>
            <a:off x="250920" y="1268280"/>
            <a:ext cx="6607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Zaoblený obdélníkový popisek 7"/>
          <p:cNvSpPr/>
          <p:nvPr/>
        </p:nvSpPr>
        <p:spPr>
          <a:xfrm>
            <a:off x="395280" y="404640"/>
            <a:ext cx="5113440" cy="158436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entury Schoolbook"/>
              </a:rPr>
              <a:t>Kolik hodin denně strávíš „surfováním na netu“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Zaoblený obdélníkový popisek 6"/>
          <p:cNvSpPr/>
          <p:nvPr/>
        </p:nvSpPr>
        <p:spPr>
          <a:xfrm>
            <a:off x="3419640" y="2349360"/>
            <a:ext cx="5113080" cy="158436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entury Schoolbook"/>
              </a:rPr>
              <a:t>Kontrolují rodiče, kolik času na počítači strávíš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Zaoblený obdélníkový popisek 8"/>
          <p:cNvSpPr/>
          <p:nvPr/>
        </p:nvSpPr>
        <p:spPr>
          <a:xfrm>
            <a:off x="395280" y="4437000"/>
            <a:ext cx="5113440" cy="158436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entury Schoolbook"/>
              </a:rPr>
              <a:t>Máš profil na Facebook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3" dur="250" autoRev="1" fill="hold"/>
                                        <p:tgtEl>
                                          <p:spTgt spid="3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" dur="250" autoRev="1" fill="hold"/>
                                        <p:tgtEl>
                                          <p:spTgt spid="3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250" autoRev="1" fill="hold"/>
                                        <p:tgtEl>
                                          <p:spTgt spid="3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2T06:47:05Z</dcterms:created>
  <dc:creator>Daňková  Kamila</dc:creator>
  <dc:description/>
  <dc:language>en-US</dc:language>
  <cp:lastModifiedBy>cevorovaa</cp:lastModifiedBy>
  <dcterms:modified xsi:type="dcterms:W3CDTF">2014-09-04T06:03:40Z</dcterms:modified>
  <cp:revision>30</cp:revision>
  <dc:subject/>
  <dc:title>Microsoft office</dc:title>
</cp:coreProperties>
</file>