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ABF-7073-4622-BE38-7BF19E189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ECF-C1F4-4DBB-9E56-5229FD7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124-A8F4-4BCD-9012-0FDF1AE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CC3-55DE-40B9-BDEF-109A0E86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862-6752-4410-9E68-66B65CCB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9F30-E3D2-4ADC-ACD3-34A8DE1E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FACD-01B7-4A94-8BAB-C8D1F01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7CC-EA48-4441-965D-48CC8DE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1D39-3AAC-4DF1-BC66-5273EBF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984D-2B8E-4A14-9BEF-C0CD77EB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3D5-8B94-41CA-B6C5-5D8AFCA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829-7E36-4000-A057-CFCE205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67F-3709-4A5F-920E-195066C5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D154-D63E-4D34-B10A-705AB19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4490-C648-4A44-BE02-408BBA2C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115B-C5A1-4D73-9849-B6C7468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5C9B-8C73-4962-B68F-1D24C87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51F4-AC4B-42FD-8766-6CE36D9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F40D-B0FC-4C23-9839-BFFE979F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69B53-94A9-441D-B558-878C2EA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21BF1-02E4-4E36-9F97-8CC58CE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06B71-A8BA-4A24-B68C-AEDF8349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90A8C-4E4B-49B6-AC3D-2763319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D79-3D75-472B-873A-C2A7CB3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F9F79-E1C8-4710-9801-9A8DE91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79B8E-1346-40D5-A606-31181A89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3B27E-9859-413F-8429-4409601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DE34C-3409-4D81-BFD0-05B15044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3CA8F-6906-4242-AADC-8D74867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F77C6-96A8-403E-AF0D-6DF5B7E0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77B4E-B44A-4CD2-9053-D5D6E89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21BE-52BE-4462-9D90-34F3C37E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8F42-B797-401D-990B-01055E8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6411-A3F7-4B06-A230-CA31063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E38-95F4-4708-8C12-7C38371D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7E0F-732E-41CA-AF5F-DC53B2D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782E-FA9F-4F07-B860-1CF02E8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32BB-700C-4E75-BDB8-A5F0460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4803-E959-4F8B-9B22-E6982FB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4022-962B-4EF5-A54E-33DD8CD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AA0E-FE94-44BB-8E6C-0672A21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E2A4-27F2-4722-9721-D2B9C2D9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EC78-FD52-4965-ABE1-E30764C4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520E-0B83-4C31-8DDD-14E2ACB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FDDD4-A754-491D-880F-73EAF67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82A-05BB-4FB8-88EE-876B908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5DC9D-4061-424F-AC43-B118B68F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B2E35-CA18-4C40-B721-276CFD36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41CF0-3D9D-48B6-B567-AF87526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BC335-E503-4B3C-AF6B-22E5D10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EECE7-D2CD-4F42-A3D8-CD431F3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917CD-7F7B-4EFB-B2A1-97C187B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056E9-A5ED-468F-A8D8-EB0DA28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08611-89DB-4988-91E8-87F8D20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BF534-1EA7-40BB-A098-DCFC4C7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D0E14-B68F-4331-90F5-7A3891A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708-D8CB-42B1-B57F-C7DEECB6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79A96-73D4-4EA3-95EC-59E05E26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15BC3-2CDA-486F-8DE1-CB2E7E65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D808A-84CE-4B21-9BED-A5CE9A5A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10B08-536F-47C9-824D-9E16F14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66CCF-15A4-48EA-A874-CDD6D4B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63ADB-7D6B-4B6A-9F3E-C167A76B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5D2CA-5884-4471-905A-0279970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7F022-1E97-493A-AB74-B53E051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990B6-6B0E-4CC6-806C-AA986B2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F039A-6956-4FE9-B854-C5201A1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3AA-0B5F-4160-A327-4B4DE00B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24BD9-1463-4972-91F3-4D4C715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10A8E-B5B3-4F85-BAC9-DBF845CC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34D01-ABEB-4AE2-9660-844172BA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F85E1-C557-464F-ACD3-8AC6020D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BA11C-BF4F-4296-BF44-C9BD91D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4A6B9-DBCD-44EE-B3D7-9B2F92A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91126-F158-44D8-B087-3C1FE5B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945F4-09A1-4777-B01F-54C1A8D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11B4A-A9F2-4682-89E7-2707ECCD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394D0-BABE-4B10-99A7-ADA831E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5C6-D424-4C71-92B4-34B704C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AF4F4-25DE-4501-9F33-5C91FB8B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80E1A-7ED1-4A5A-AFA6-F095C4F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D98E1-4A3F-4A3F-B5D8-A201CFF3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BA7C2-BBFA-4800-AE91-4CE3ACFD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710C5-7844-48FC-ADEE-11124E85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D7A-C86E-4359-9B96-2648F87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1E6-4BDD-4B32-A780-EAEB62C772C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697-319B-48CD-8DE1-499AAF9DDC5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A37E-52D9-4DDD-8CC4-001B98418D5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391-836A-42A4-BA7B-EC7340BE3FD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7E4-DB90-47E5-9929-00FD39BC285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947-361F-458B-BE61-9BB34758B4A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52F-75F5-4055-BE86-0C52E89FC9C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1584360" y="6237360"/>
            <a:ext cx="597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1700280"/>
          <a:ext cx="6837120" cy="10969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116"/>
          <p:cNvSpPr/>
          <p:nvPr/>
        </p:nvSpPr>
        <p:spPr>
          <a:xfrm>
            <a:off x="395280" y="2883960"/>
            <a:ext cx="8497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2_SADA9_MAC_5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Informační a komunikační 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Počíta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10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61581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OUŽITÉ 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škerý obrazový materiál byl čerpán z voln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tupných zdroj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werPoi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par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neb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 PowerPoi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part Offi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Zástupný symbol pro zápatí 2"/>
          <p:cNvSpPr/>
          <p:nvPr/>
        </p:nvSpPr>
        <p:spPr>
          <a:xfrm>
            <a:off x="1601640" y="6021360"/>
            <a:ext cx="59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NÁZEV: INTERNET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AUTOR: MGR. JANA MACÍ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DATUM: 21.9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STRUČNÁ ANOTACE: PREZENTACE SLOUŽÍ JAKO VÝUKOVÝ MATERIÁL PRO ŽÁKY 5. ROČNÍKU ZŠ. JEJÍM CÍLEM JE SEZNÁMENÍ S INTERNETEM.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METODICKÉ ZHODNOCENÍ: ŽÁCI MLUVILI O SVÝCH ČINNOSTECH NA INTERNETU. PREZENTACE I S DISKUZÍ TRVALA  ASI DESET MINUT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d0d0d"/>
                </a:solidFill>
                <a:latin typeface="Century Schoolbook"/>
              </a:rPr>
              <a:t>INTERNET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d0d0d"/>
                </a:solidFill>
                <a:latin typeface="Century Schoolbook"/>
              </a:rPr>
              <a:t>= celosvětový systém navzájem propojených počítačových sítí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CÍLE INTERNETU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Bezproblémová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Vyhledávání informací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aoblený obdélníkový popisek 8"/>
          <p:cNvSpPr/>
          <p:nvPr/>
        </p:nvSpPr>
        <p:spPr>
          <a:xfrm>
            <a:off x="1116000" y="3357720"/>
            <a:ext cx="2879640" cy="180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Co děláš na internetu 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C:\Program Files (x86)\Microsoft Office\MEDIA\CAGCAT10\j0300520.gif"/>
          <p:cNvPicPr/>
          <p:nvPr/>
        </p:nvPicPr>
        <p:blipFill>
          <a:blip r:embed="rId1"/>
          <a:stretch/>
        </p:blipFill>
        <p:spPr>
          <a:xfrm>
            <a:off x="5364000" y="2565360"/>
            <a:ext cx="306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PŘIPOJENÍ K INTERNETU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Telefonní link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Kabelová televiz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Bezdrátová síť-Wi-fi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Elektrická rozvodná síť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aoblený obdélníkový popisek 4"/>
          <p:cNvSpPr/>
          <p:nvPr/>
        </p:nvSpPr>
        <p:spPr>
          <a:xfrm>
            <a:off x="5508720" y="1484280"/>
            <a:ext cx="3095640" cy="2305080"/>
          </a:xfrm>
          <a:prstGeom prst="wedgeRoundRectCallout">
            <a:avLst>
              <a:gd name="adj1" fmla="val -20250"/>
              <a:gd name="adj2" fmla="val 83324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Víš, jak se připojuješ k internetu u sebe do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575f6d"/>
                </a:solidFill>
                <a:latin typeface="Century Schoolbook"/>
              </a:rPr>
              <a:t>INTERNETOVÉ PROHLÍŽEČE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Windows Internet Explor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Mozilla Firefox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Google Chrom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Oper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Zaoblený obdélníkový popisek 5"/>
          <p:cNvSpPr/>
          <p:nvPr/>
        </p:nvSpPr>
        <p:spPr>
          <a:xfrm>
            <a:off x="4859280" y="3068640"/>
            <a:ext cx="2881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Který používáš 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575f6d"/>
                </a:solidFill>
                <a:latin typeface="Century Schoolbook"/>
              </a:rPr>
              <a:t>INTERNETOVÉ VYHLEDÁVAČ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Centrum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Seznam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Atla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Zaoblený obdélníkový popisek 5"/>
          <p:cNvSpPr/>
          <p:nvPr/>
        </p:nvSpPr>
        <p:spPr>
          <a:xfrm>
            <a:off x="3924360" y="2276640"/>
            <a:ext cx="3311640" cy="208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Který nejčastěji používáš 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Když už znáš příklady internetových prohlížečů a vyhledávačů…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délník 4"/>
          <p:cNvSpPr/>
          <p:nvPr/>
        </p:nvSpPr>
        <p:spPr>
          <a:xfrm>
            <a:off x="250920" y="1268280"/>
            <a:ext cx="660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aoblený obdélníkový popisek 7"/>
          <p:cNvSpPr/>
          <p:nvPr/>
        </p:nvSpPr>
        <p:spPr>
          <a:xfrm>
            <a:off x="1908000" y="3429000"/>
            <a:ext cx="6120000" cy="2160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dokážeš vysvětlit rozdí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75f6d"/>
                </a:solidFill>
                <a:latin typeface="Century Schoolbook"/>
              </a:rPr>
              <a:t>ÚKOL A PŘÍŠTÍ HODINU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Zeptej se rodičů, k čemu využívají internet oni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47:05Z</dcterms:created>
  <dc:creator>Daňková  Kamila</dc:creator>
  <dc:description/>
  <dc:language>en-US</dc:language>
  <cp:lastModifiedBy>cevorovaa</cp:lastModifiedBy>
  <dcterms:modified xsi:type="dcterms:W3CDTF">2014-09-04T06:04:08Z</dcterms:modified>
  <cp:revision>30</cp:revision>
  <dc:subject/>
  <dc:title>Microsoft office</dc:title>
</cp:coreProperties>
</file>