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E57-3FAF-48BF-93C5-85BB2709B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9B5-A32F-4F86-BC8C-F0295DCC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BF3-2EBD-4C7D-9489-ECFA6853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847-36D9-4068-81DA-D2D00A8D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E04-0FCD-47E9-9E6A-83946C0E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D3A-0FFF-41DE-B7F2-8565364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449-1CA1-4B9E-B569-6096AA7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F06-C6F5-49F0-8D6B-EA6281C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073-1B83-4266-BA26-FE4DDBAC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C7E5-0DF0-4F7B-AF30-826A31D3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2D31-C6E7-421D-B4CB-39CC15F4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0AB9-280B-4384-AA77-9975FB8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9BE-B593-40E1-A7D3-D7714B2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4FBA-E584-4A55-8057-4E9BDFE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1963-95EF-41E1-A143-210B1770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24FA-244D-426D-935A-74D1CF0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8963-AE27-48A8-B312-7891BC01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6CF5-424E-43F7-9179-E18DCC61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20EF1-15F7-4745-9E80-0FB82F29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24E5A-E77B-4C7A-92DD-B24DE8E8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049CC-CFF3-483B-BD3B-2A3D0045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5DC5-12AF-4D42-86BD-83B49E63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DA6DF-F3E0-4495-B485-9F41CF4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5C9-01BF-49C0-9804-34A97EE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F50D7-EFAC-41F3-9266-624738BA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81AF6-E086-49B5-8A9D-DD55B73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8BCD8-3B1B-47B2-9499-4A8D731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94EE3-8A8D-41A3-927B-5923E7A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CC089-6DE2-411E-B92C-D6F154E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4BB61-2441-42CA-80FD-BAFB4D5C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6B82D-E395-4A3C-9668-54E11C2D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5329-8388-4806-A0E1-AABCE9FF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B719-D903-4100-8C69-DE4BA9F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7EB6-C496-42A7-AE49-5B74D269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548-E0EE-4256-8F08-4C80E821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56A0A-FA59-419D-841D-A2A60D76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AD5A-9963-42A2-9F5C-EA8FF3D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3071-3E19-4308-B330-EC91312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D3F4-6FF0-4663-84A7-9AF7CDA3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4F0A-9839-4280-AD5F-ABCD9BE7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6239-F94E-4718-A980-6D3F32B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F846-6297-4A08-9C57-08C6AFC0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4459-3C2D-49A5-A998-FAB787CC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ECA8-431E-4088-B370-3E5D3DCC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07EBA-FAE3-4362-83D4-11A8F008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952-2F4D-4211-8E6B-1C0233F3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24954-F0D9-4402-8CA0-D5EAC057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DA20D-EB91-49F5-8F24-8F364B1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D3A4F-1588-4560-A463-01984663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905F8-6199-4325-93E0-589AF773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A10EE-48EA-4774-8DF9-50D37207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D9A92-FDB0-41A3-9921-1BD0992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55A21-D663-4095-8238-6BDB56B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E3DA5-1ED0-4076-A75F-4A049F9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61EC5-270F-48E3-9382-B0C5020B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DA459-743E-4EAC-BE59-9F097538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D1A-6319-479D-91E2-8A9118D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2B15B-4914-4EAC-A855-9773DABC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9BD4F-B839-4079-882C-9BA2B970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FC0AD-1567-4933-91C6-EC51645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15B3D-3967-411D-AA1E-F4EF42B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C3F51-A914-4052-9312-76E60F3B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78EF2-B66C-476A-8E55-1773D3F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A5E40-B6FC-4E29-9077-FECBF437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9AF60-A31F-4893-B35F-262A90A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B5507-7694-4B49-85FA-B09084B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A4708-10C4-444B-9527-B22BA7D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3F0-A85E-40E9-BBAF-B92A9F3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69BAD-BE29-4DEC-8BD3-DF90F3F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F7453-2EBB-4A7F-8790-29020366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428E2-A735-4508-AEA5-5FCAEAD7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9B019-727C-4E33-8703-1B269FD0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116EA-D9D6-419E-9F44-D6EA88E1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85E7D-717B-4904-8EEA-8D58DA62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D7192-B06E-4248-BBB2-B73E5C6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629B8-0A25-49A5-B8E2-6CA1293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F7B6E-4565-4F37-A09C-384559A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4625A-10A8-42A7-B420-B760C3D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5DE-7CD1-4408-9C45-FE4BBFF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37313-79D1-4D3B-A3D7-1C639A6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06364-9DC5-458F-B901-A5CD70B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6FED8-78D0-460D-A720-A426E722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777C7-7C10-42A1-BB95-F475F189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D90A3-93E4-4AD1-B916-F395200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530-9E78-41DE-96D9-806A21E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D5C-5D7D-4495-ADD8-FAE0A517F57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E8D-89C3-4738-9229-62078AF3308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D99-38BA-46BB-9EAC-B98302FF500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8270-3D7B-440B-91BC-E2EF62E3653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C46-D2B6-4D27-BDC2-62C81D3FC6D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C8E6-82E2-476C-A99C-DDD33E9BD4B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95F7-FE02-466E-A64B-8869D18F83B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1584360" y="6237360"/>
            <a:ext cx="597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1700280"/>
          <a:ext cx="6837120" cy="10969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Rectangle 116"/>
          <p:cNvSpPr/>
          <p:nvPr/>
        </p:nvSpPr>
        <p:spPr>
          <a:xfrm>
            <a:off x="395280" y="2883960"/>
            <a:ext cx="8497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4_SADA9_MAC_5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Informační a komunikační tech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 Počítač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10" descr=""/>
          <p:cNvPicPr/>
          <p:nvPr/>
        </p:nvPicPr>
        <p:blipFill>
          <a:blip r:embed="rId2"/>
          <a:stretch/>
        </p:blipFill>
        <p:spPr>
          <a:xfrm>
            <a:off x="2268360" y="4365720"/>
            <a:ext cx="61581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Zástupný symbol pro zápatí 2"/>
          <p:cNvSpPr/>
          <p:nvPr/>
        </p:nvSpPr>
        <p:spPr>
          <a:xfrm>
            <a:off x="1601640" y="6021360"/>
            <a:ext cx="59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NÁZEV: INTERNET- SOCIÁLNÍ SÍTĚ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AUTOR: MGR. JANA MACÍ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DATUM: 23.11.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STRUČNÁ ANOTACE: PREZENTACE SLOUŽÍ JAKO VÝUKOVÝ MATERIÁL PRO ŽÁKY 5. ROČNÍKU ZŠ. JEJÍM CÍLEM JE SEZNÁMENÍ SE SOCIÁLNÍMI SÍTĚMI, HLAVNĚ SOCIÁLNÍ SÍTÍ FACEBOOK, S JEJÍMI VÝHODAMI A PŘEDEVŠÍM NEVÝHODAMI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METODICKÉ ZHODNOCENÍ: ŽÁCI HOVOŘILI O SVÝCH ZKUŠENOSTECH SE SOCIÁLNÍMI SÍTĚMI. PREZENTACE I S DISKUZÍ TRVALA ASI PATNÁCT MINUT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d0d0d"/>
                </a:solidFill>
                <a:latin typeface="Century Schoolbook"/>
              </a:rPr>
              <a:t>SOCIÁLNÍ SÍTĚ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d0d0d"/>
                </a:solidFill>
                <a:latin typeface="Century Schoolbook"/>
              </a:rPr>
              <a:t>	</a:t>
            </a:r>
            <a:r>
              <a:rPr b="0" lang="cs-CZ" sz="3600" spc="-1" strike="noStrike">
                <a:solidFill>
                  <a:srgbClr val="0d0d0d"/>
                </a:solidFill>
                <a:latin typeface="Century Schoolbook"/>
              </a:rPr>
              <a:t>nám umožňují sdílení dat, zážitků, postojů a přání s našimi přáteli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d0d0d"/>
                </a:solidFill>
                <a:latin typeface="Century Schoolbook"/>
              </a:rPr>
              <a:t>	</a:t>
            </a:r>
            <a:r>
              <a:rPr b="0" lang="cs-CZ" sz="3600" spc="-1" strike="noStrike">
                <a:solidFill>
                  <a:srgbClr val="0d0d0d"/>
                </a:solidFill>
                <a:latin typeface="Century Schoolbook"/>
              </a:rPr>
              <a:t>ale i s lidmi, které neznáme a kterým to dovolíme!!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Veselý obličej 4"/>
          <p:cNvSpPr/>
          <p:nvPr/>
        </p:nvSpPr>
        <p:spPr>
          <a:xfrm>
            <a:off x="684360" y="126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Veselý obličej 5"/>
          <p:cNvSpPr/>
          <p:nvPr/>
        </p:nvSpPr>
        <p:spPr>
          <a:xfrm>
            <a:off x="684360" y="357336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ám umožňují udržovat naše vztahy s kamarády a navazovat vztahy nov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ale je dobré navazovat vztahy s cizími lidmi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Veselý obličej 6"/>
          <p:cNvSpPr/>
          <p:nvPr/>
        </p:nvSpPr>
        <p:spPr>
          <a:xfrm>
            <a:off x="755640" y="112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Veselý obličej 7"/>
          <p:cNvSpPr/>
          <p:nvPr/>
        </p:nvSpPr>
        <p:spPr>
          <a:xfrm>
            <a:off x="826920" y="400536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NEJZNÁMĚJŠÍ JSOU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Facebook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Lidé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Spolužáci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aoblený obdélníkový popisek 4"/>
          <p:cNvSpPr/>
          <p:nvPr/>
        </p:nvSpPr>
        <p:spPr>
          <a:xfrm>
            <a:off x="4067280" y="2060640"/>
            <a:ext cx="3095640" cy="2305080"/>
          </a:xfrm>
          <a:prstGeom prst="wedgeRoundRectCallout">
            <a:avLst>
              <a:gd name="adj1" fmla="val -20250"/>
              <a:gd name="adj2" fmla="val 83324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Kterou sociální síť používáš 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HESLO DNE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aoblený obdélníkový popisek 5"/>
          <p:cNvSpPr/>
          <p:nvPr/>
        </p:nvSpPr>
        <p:spPr>
          <a:xfrm>
            <a:off x="1619280" y="1700280"/>
            <a:ext cx="5400720" cy="3168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5cd2d"/>
          </a:solidFill>
          <a:ln w="25560">
            <a:solidFill>
              <a:srgbClr val="b49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Schoolbook"/>
              </a:rPr>
              <a:t>„</a:t>
            </a:r>
            <a:r>
              <a:rPr b="0" lang="cs-CZ" sz="4000" spc="-1" strike="noStrike">
                <a:solidFill>
                  <a:srgbClr val="ffffff"/>
                </a:solidFill>
                <a:latin typeface="Century Schoolbook"/>
              </a:rPr>
              <a:t>VŠEHO S MÍROU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575f6d"/>
                </a:solidFill>
                <a:latin typeface="Century Schoolbook"/>
              </a:rPr>
              <a:t>CO JSME SE JIŽ NAUČILI…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V minulých hodinách jsme se seznámili s nebezpečím internetu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Zaoblený obdélníkový popisek 5"/>
          <p:cNvSpPr/>
          <p:nvPr/>
        </p:nvSpPr>
        <p:spPr>
          <a:xfrm>
            <a:off x="1908000" y="3573360"/>
            <a:ext cx="5185080" cy="2232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Dokážeš tedy vysvětlit, v čem jsou sociální sítě nebezpečn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SOUHLASÍŠ SE MNOU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Do přátel si přidávám pouze přátele, které dobře zná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ezveřejňuji své osobní údaj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ikomu nepovím své heslo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Facebook si nezakládám bez dovolení rodičů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 4"/>
          <p:cNvSpPr/>
          <p:nvPr/>
        </p:nvSpPr>
        <p:spPr>
          <a:xfrm>
            <a:off x="250920" y="1268280"/>
            <a:ext cx="660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aoblený obdélníkový popisek 7"/>
          <p:cNvSpPr/>
          <p:nvPr/>
        </p:nvSpPr>
        <p:spPr>
          <a:xfrm>
            <a:off x="4211640" y="4797360"/>
            <a:ext cx="3313080" cy="8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Souhlasí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575f6d"/>
                </a:solidFill>
                <a:latin typeface="Century Schoolbook"/>
              </a:rPr>
              <a:t>ÚKOL A PŘÍŠTÍ HODINU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Zamysli se nad tím, kolik času strávíš u internetu se svými virtuálními přáteli a kolik venku s těmi reálnými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47:05Z</dcterms:created>
  <dc:creator>Daňková  Kamila</dc:creator>
  <dc:description/>
  <dc:language>en-US</dc:language>
  <cp:lastModifiedBy>cevorovaa</cp:lastModifiedBy>
  <dcterms:modified xsi:type="dcterms:W3CDTF">2014-09-04T06:04:50Z</dcterms:modified>
  <cp:revision>30</cp:revision>
  <dc:subject/>
  <dc:title>Microsoft office</dc:title>
</cp:coreProperties>
</file>